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164-2130-4869-93CB-31FC6993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40A-6FD8-4D36-B2A3-9A8F2CD9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80E-9C62-4618-8D07-414C2BE3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C00-ED14-4D58-A1F9-7A577E63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3BFE-572C-492C-8BBA-4C9DBEF1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D94C-FC53-4E38-A475-349ECC41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C379-21E4-4201-9FA5-C69BE938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CE9C-A7D9-4AE5-8078-86EFBF57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1973-524E-4D1B-8D76-8BED5B00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7D82-1C80-4E6C-B37D-AA3AEF96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E289-C223-4764-A14A-9F3ACAE3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EF0-4BC4-413B-A02F-6BC01029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4D05-2A59-4EBD-8999-8E3C7EB1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C761-5CB6-4FCD-A501-CA625CDA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3B6E-68AB-4FC5-87C5-66D21A6C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DF29-06AD-4423-A0F5-7E46F44E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C0DB-F9AA-435D-9093-7833FF69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5D74D-184F-429A-A3BB-D9D8C36D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31C61-DF5D-4076-9AC7-403FA43F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C792A-0339-41FC-B396-67764681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4AD5C-4272-489A-AC91-2C562B64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EED61-A42D-4444-8E6C-86103AE1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B5E-2BAA-44FE-828F-8D877EE1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1BAB7-AE19-4392-A20D-2E752ABA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C2D02-6489-4EA9-9977-DA68C365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3877D-39B4-4042-9E30-01C78556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5B7D9-A508-45D6-A29E-588F99D9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F4FA9-0350-44AD-A299-FCD18326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CD902-88BC-47FB-AF0C-C2BE25F5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8FB22-F1C0-407C-B0DA-C465D1CF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4B88-CBDF-4C22-9EF0-4E6D8981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F6FFE-0A68-49C2-8282-207C52F0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DC41C-7114-499D-AB28-4A4777BA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8A8-4679-449F-8475-CBAF19BD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BF27E-CC3D-422E-8874-29961173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30A8-8150-44A5-8A3E-30A55F93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0B974-CDEC-49B0-9101-F9E70094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45BD6-C387-4266-A894-BDFCC4A1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D83F0-A041-4A93-9DD9-EBC6113A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FEBA5-C377-4B9A-8957-E25B7891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C14B7-BB34-4B7F-8CAD-9CD81F4C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1532B-B86C-47EF-BF4D-342B5147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7A6B7-7B85-416E-A909-94D904BC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501C0-F3DB-488C-8727-D0C47FDA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53F-CD5B-4147-8DC8-4E81E2ED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13F9F-DC49-47C1-8455-92A9B11E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5D7AE8-3A4B-48B7-9FDF-172B4F65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67BC7-0B4B-4B6C-8620-4EC6A225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78429-3E36-418C-95BC-5728883E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D0CE1-4101-42E0-96CD-2C5A9E40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56194-5B76-4EE4-837B-9E09016C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C639A-F1BB-4A82-B6DE-7C8D69D8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23182-E3B0-4E05-9F25-5C74846F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BBDE2-B2EC-4DB4-9821-B6248E84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363A8-2FA9-45E8-96A3-89DBE901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29D-0675-4DD4-B9B6-C91FCF41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2D69E-CCD4-4623-9B96-DACF0AA4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77D16-E460-4428-9B0A-09988687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109D4C-9EC7-43B5-A412-3D1AA330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739BD-9D60-4093-A716-4D906A8D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F83EB-466D-4BE9-99D5-F380D3C9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03FC6-E63D-4B6C-A45D-EB85FC07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C7225-3C4C-41EF-AF88-DB393DD6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11B91-3FA8-4DF0-AA33-062B15A6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6657F-565B-44D1-ADED-050F4607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26AF0-EB59-4D19-AD67-8CE6DF91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BD3-87EB-4430-9584-3236FB5E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D84C7-CCAD-4D4B-9D96-879ADAF7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2D6EC-3686-4EA7-BD42-EB798258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FF9E6-E2EB-4B08-8EDC-38554042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29C16-3E6F-40EA-8B83-592949D6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B825DC-45FD-485F-BE7A-EAC92160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41C61-B378-4D49-A086-E3663A0C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02D00-3F6D-44E1-9CCA-04A0BE4D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978AE3-09A7-4278-9278-AE56240F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E13CC-EEA7-455D-9622-CDA97AB1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FB069-50F3-4038-B21C-165DE752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808-BA21-40B1-A51A-376A7FC1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35D83-5063-47EE-A85A-3FF60681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CAA48-AA7E-4746-97BD-5724B009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164D2-3803-4A63-9DBE-872673F9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A6F05-E576-41C9-A93D-2C8B3369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383BE-AB67-4273-AB60-5CEADDF5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2CB-6ABC-4243-B04D-0AFEE75C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A124-A408-4787-897E-D7CE54264190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568D-54C0-4BFD-821C-864C8ABC5F21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A566-8AC9-4FCF-8C80-5096D6BF964D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F674-7492-4A50-A8DE-82EC12BB292F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3D80-921B-4007-B712-812888A1563E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707C-74D8-4B53-8347-28995DF9CBF8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18D0-72A3-4705-975B-2C905324BAFB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42720" y="57168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          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HARRIET GWYNNE’S 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               ROMAN VILL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5" descr="http://www.gardenvisit.com/assets/madge/fishbourne/original/fishbourne_original.jpg"/>
          <p:cNvPicPr/>
          <p:nvPr/>
        </p:nvPicPr>
        <p:blipFill>
          <a:blip r:embed="rId1"/>
          <a:stretch/>
        </p:blipFill>
        <p:spPr>
          <a:xfrm>
            <a:off x="2714760" y="2928960"/>
            <a:ext cx="5695920" cy="356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1</a:t>
            </a:r>
            <a:r>
              <a:rPr b="0" lang="en-US" sz="3000" spc="-1" strike="noStrike" baseline="30000">
                <a:solidFill>
                  <a:srgbClr val="575f6d"/>
                </a:solidFill>
                <a:latin typeface="Century Schoolbook"/>
              </a:rPr>
              <a:t>ST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STA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 made the base of the structur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n I made the pillars for under the entrance ro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928880" y="2786040"/>
            <a:ext cx="4827600" cy="385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2ND STA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xt I added the main pool to the villa and added a roof and pillars to it for sha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2857680" y="3286080"/>
            <a:ext cx="2485800" cy="278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3</a:t>
            </a:r>
            <a:r>
              <a:rPr b="0" lang="en-US" sz="3000" spc="-1" strike="noStrike" baseline="30000">
                <a:solidFill>
                  <a:srgbClr val="575f6d"/>
                </a:solidFill>
                <a:latin typeface="Century Schoolbook"/>
              </a:rPr>
              <a:t>RD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STA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xt I added the path of the garden down the middle of the platform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1500120" y="3500280"/>
            <a:ext cx="5181840" cy="181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4</a:t>
            </a:r>
            <a:r>
              <a:rPr b="0" lang="en-US" sz="3000" spc="-1" strike="noStrike" baseline="30000">
                <a:solidFill>
                  <a:srgbClr val="575f6d"/>
                </a:solidFill>
                <a:latin typeface="Century Schoolbook"/>
              </a:rPr>
              <a:t>TH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STA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the next stage I added another pool off the side of the garden that meant that I had to extend the main platform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2714760" y="2714760"/>
            <a:ext cx="3581280" cy="3638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5</a:t>
            </a:r>
            <a:r>
              <a:rPr b="0" lang="en-US" sz="3000" spc="-1" strike="noStrike" baseline="30000">
                <a:solidFill>
                  <a:srgbClr val="575f6d"/>
                </a:solidFill>
                <a:latin typeface="Century Schoolbook"/>
              </a:rPr>
              <a:t>TH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STA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xt I made the arch between the entrance and the ga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1714680" y="2857680"/>
            <a:ext cx="5257800" cy="268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6</a:t>
            </a:r>
            <a:r>
              <a:rPr b="0" lang="en-US" sz="3000" spc="-1" strike="noStrike" baseline="30000">
                <a:solidFill>
                  <a:srgbClr val="575f6d"/>
                </a:solidFill>
                <a:latin typeface="Century Schoolbook"/>
              </a:rPr>
              <a:t>TH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STA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the next stage it was just adding the finishing stages to the pools and garden like adding the colo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 rot="21436200">
            <a:off x="2785680" y="2701800"/>
            <a:ext cx="3610080" cy="385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7</a:t>
            </a:r>
            <a:r>
              <a:rPr b="0" lang="en-US" sz="3000" spc="-1" strike="noStrike" baseline="30000">
                <a:solidFill>
                  <a:srgbClr val="575f6d"/>
                </a:solidFill>
                <a:latin typeface="Century Schoolbook"/>
              </a:rPr>
              <a:t>TH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STAGE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xt I added the trees and ornamental plants to the garden path. (I downloaded from Google sketchup 3d warehous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485800" cy="367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Y HARRIET GWYN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anks for watching I hope you enjoyed it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ye for now!!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 rot="21436200">
            <a:off x="2785680" y="2701800"/>
            <a:ext cx="3610080" cy="385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3:13:45Z</dcterms:created>
  <dc:creator>Diocesan School for Girls</dc:creator>
  <dc:description/>
  <dc:language>en-US</dc:language>
  <cp:lastModifiedBy>Diocesan School for Girls</cp:lastModifiedBy>
  <dcterms:modified xsi:type="dcterms:W3CDTF">2009-09-08T23:44:59Z</dcterms:modified>
  <cp:revision>31</cp:revision>
  <dc:subject/>
  <dc:title>Slide 1</dc:title>
</cp:coreProperties>
</file>